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8F2-CD47-4248-99C6-78EF6FC6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A34-A1E9-4251-AC94-76E160DA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0B1-D199-40FD-84D8-00EED19F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BD76-417C-43B3-9E78-7D3617B7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4B4-2173-4942-B226-A030EA13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D9A-A9DA-4CD4-B2A1-8546B049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573-0AC5-4E53-8C65-3C00BEFE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2F4-3981-4ADC-A37E-955E552F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21F-53CF-4E7E-BC6D-7C5B1C78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618-A67A-480A-8E91-13DB4AA7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AAE-3B1F-4DCA-AAD5-01D4AAC7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CF3-818A-41A7-839B-A3439086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<Relationship Id="rId20" Type="http://schemas.openxmlformats.org/officeDocument/2006/relationships/slideLayout" Target="../slideLayouts/slideLayout2.xml"/><Relationship Id="rId21" Type="http://schemas.openxmlformats.org/officeDocument/2006/relationships/slideLayout" Target="../slideLayouts/slideLayout3.xml"/><Relationship Id="rId22" Type="http://schemas.openxmlformats.org/officeDocument/2006/relationships/slideLayout" Target="../slideLayouts/slideLayout4.xml"/><Relationship Id="rId23" Type="http://schemas.openxmlformats.org/officeDocument/2006/relationships/slideLayout" Target="../slideLayouts/slideLayout5.xml"/><Relationship Id="rId24" Type="http://schemas.openxmlformats.org/officeDocument/2006/relationships/slideLayout" Target="../slideLayouts/slideLayout6.xml"/><Relationship Id="rId25" Type="http://schemas.openxmlformats.org/officeDocument/2006/relationships/slideLayout" Target="../slideLayouts/slideLayout7.xml"/><Relationship Id="rId26" Type="http://schemas.openxmlformats.org/officeDocument/2006/relationships/slideLayout" Target="../slideLayouts/slideLayout8.xml"/><Relationship Id="rId27" Type="http://schemas.openxmlformats.org/officeDocument/2006/relationships/slideLayout" Target="../slideLayouts/slideLayout9.xml"/><Relationship Id="rId28" Type="http://schemas.openxmlformats.org/officeDocument/2006/relationships/slideLayout" Target="../slideLayouts/slideLayout10.xml"/><Relationship Id="rId29" Type="http://schemas.openxmlformats.org/officeDocument/2006/relationships/slideLayout" Target="../slideLayouts/slideLayout11.xml"/><Relationship Id="rId3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0C7D-9854-4852-9A8A-7989D1CE4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 rot="1873200">
            <a:off x="7380000" y="188640"/>
            <a:ext cx="1154160" cy="1154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 rot="1873200">
            <a:off x="707760" y="5840280"/>
            <a:ext cx="577800" cy="5781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 rot="1873200">
            <a:off x="2050560" y="981000"/>
            <a:ext cx="578160" cy="577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 rot="1873200">
            <a:off x="6948000" y="33300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 rot="1873200">
            <a:off x="5003280" y="333360"/>
            <a:ext cx="578160" cy="5778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 rot="1873200">
            <a:off x="4284360" y="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 rot="1873200">
            <a:off x="8316720" y="134100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 rot="1873200">
            <a:off x="899640" y="18864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0"/>
          <a:stretch/>
        </p:blipFill>
        <p:spPr>
          <a:xfrm rot="1873200">
            <a:off x="394920" y="458100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1"/>
          <a:stretch/>
        </p:blipFill>
        <p:spPr>
          <a:xfrm rot="1873200">
            <a:off x="250560" y="551628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2"/>
          <a:stretch/>
        </p:blipFill>
        <p:spPr>
          <a:xfrm rot="1873200">
            <a:off x="7235640" y="1412640"/>
            <a:ext cx="290160" cy="29052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3"/>
          <a:stretch/>
        </p:blipFill>
        <p:spPr>
          <a:xfrm rot="1873200">
            <a:off x="394920" y="141264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4"/>
          <a:stretch/>
        </p:blipFill>
        <p:spPr>
          <a:xfrm rot="1873200">
            <a:off x="8243640" y="594972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15"/>
          <a:stretch/>
        </p:blipFill>
        <p:spPr>
          <a:xfrm rot="1873200">
            <a:off x="323640" y="213336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19" name="" descr=""/>
          <p:cNvPicPr/>
          <p:nvPr/>
        </p:nvPicPr>
        <p:blipFill>
          <a:blip r:embed="rId16"/>
          <a:stretch/>
        </p:blipFill>
        <p:spPr>
          <a:xfrm rot="1873200">
            <a:off x="0" y="386028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20" name="" descr=""/>
          <p:cNvPicPr/>
          <p:nvPr/>
        </p:nvPicPr>
        <p:blipFill>
          <a:blip r:embed="rId17"/>
          <a:stretch/>
        </p:blipFill>
        <p:spPr>
          <a:xfrm rot="1873200">
            <a:off x="8027640" y="6381360"/>
            <a:ext cx="290520" cy="29052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18"/>
          <a:stretch/>
        </p:blipFill>
        <p:spPr>
          <a:xfrm rot="1873200">
            <a:off x="7740360" y="6021000"/>
            <a:ext cx="290520" cy="2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9"/>
    <p:sldLayoutId id="2147483650" r:id="rId20"/>
    <p:sldLayoutId id="2147483651" r:id="rId21"/>
    <p:sldLayoutId id="2147483652" r:id="rId22"/>
    <p:sldLayoutId id="2147483653" r:id="rId23"/>
    <p:sldLayoutId id="2147483654" r:id="rId24"/>
    <p:sldLayoutId id="2147483655" r:id="rId25"/>
    <p:sldLayoutId id="2147483656" r:id="rId26"/>
    <p:sldLayoutId id="2147483657" r:id="rId27"/>
    <p:sldLayoutId id="2147483658" r:id="rId28"/>
    <p:sldLayoutId id="2147483659" r:id="rId29"/>
    <p:sldLayoutId id="2147483660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66"/>
                </a:solidFill>
                <a:latin typeface="Comic Sans MS"/>
              </a:rPr>
              <a:t>At Pigeon Mountain Prim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835280" y="2060640"/>
            <a:ext cx="5257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Inquir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598320"/>
            <a:ext cx="8496000" cy="56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99"/>
                </a:solidFill>
                <a:latin typeface="Comic Sans MS"/>
              </a:rPr>
              <a:t>Discuss where you are at with inquiry and where you are 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99"/>
                </a:solidFill>
                <a:latin typeface="Comic Sans MS"/>
              </a:rPr>
              <a:t>Write on post its the things you found, tricky, successful or interesting, stick your post its onto the PMI ch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411280" y="620640"/>
            <a:ext cx="3962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In group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96000" y="4797360"/>
            <a:ext cx="14684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0360" y="324648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http://www.edtalks.org/play.php?vid=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39510" r="0" b="0"/>
          <a:stretch/>
        </p:blipFill>
        <p:spPr>
          <a:xfrm>
            <a:off x="6084720" y="4005360"/>
            <a:ext cx="190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4360" y="333360"/>
            <a:ext cx="720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Ideas for displaying st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920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838188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38188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821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8:09:02Z</dcterms:created>
  <dc:creator>Ministry of Education</dc:creator>
  <dc:description/>
  <dc:language>en-US</dc:language>
  <cp:lastModifiedBy>Ministry of Education</cp:lastModifiedBy>
  <dcterms:modified xsi:type="dcterms:W3CDTF">2010-01-27T08:40:45Z</dcterms:modified>
  <cp:revision>10</cp:revision>
  <dc:subject/>
  <dc:title>Slide 1</dc:title>
</cp:coreProperties>
</file>